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2EF1-DB22-469C-BF6F-A0F67851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DE4A-9ED2-407C-ACFB-43AF2856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D826-4714-4999-A12B-51F17932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1E15-979A-4AF1-BF88-795918C3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695A-A9D7-43CE-8D28-EADC14F7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3F99-DB37-4DFD-8DB2-81DD1CAD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26DF-4D78-4136-84DB-8F79D26F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B9705-FE45-4847-B6F9-B5744C62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55F1-25AD-42CB-9C75-D9C8EFA6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4EBC-4B26-42BB-9A2B-48A25667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CAF0F-8151-451D-BA5D-D1F3F2D2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49F8-5E33-41E0-80E1-40B62012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90EF-F57C-4C57-B147-36B118B3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4FA0C-305D-4BED-85B5-36BC09B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43E0-C819-45CC-9495-8904E8C2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AF936-E561-4260-AC79-1CA4A61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030B-6F39-4583-9D5F-487E71D3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A2878-6B97-41CB-91EB-4D27C756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9E92-C4E5-4386-8225-7B0EADD1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CEB4-D14A-4E8D-AFB8-87666A7B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2B5E-2648-4BBE-8334-0E6E7E48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5E4-B549-4D25-AD6B-799724E5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32C-5CDB-4D6A-9E0B-EA5A3491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B1A-A0DF-4DD6-A44E-4053E2D3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B27-57D3-47B6-AE3E-5C0A4B2F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270-D945-427B-9DD0-7BD272BD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783-B33F-417C-B1FE-98F07D1C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A06-59AE-41D1-9720-B86836D5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2FD-1280-42C2-9005-FBBCED5C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B20-437A-40D3-86EB-B8B484A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32D-A480-44C0-96D3-4AA0D62F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B7A-F90E-4D55-B8E2-A876754D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AD7-19E8-46DD-832E-65940666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8B81-1DE2-4B36-9771-43D0ED35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E69C-F839-47FC-AB17-37458523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DBAF-A65E-419A-B054-8AB1E5CF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73F3-7515-4A29-B20C-1A0863D2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921C-0BFE-42D1-8561-03C4088D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ABDD-3189-430F-8AB7-9245F4B9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4BC2-F721-48DE-A2F0-025A9D5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EA59-C1BC-43E3-8335-18DC0AC1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326C-734E-4174-BD09-1DFA3A6A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82C4-556B-453C-B508-2C159B25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8B3B-20C6-4C1E-A7B9-DD55A480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947F-0CC1-48C5-8F93-E0715B6D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5A9F-1CA9-461B-B597-37069580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416B-7ECF-47BB-BAAD-E8ADBFA6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B00F-D0C4-48E0-8BEA-E42A9D73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4AF8-B910-4049-A163-0C1FE7AFDDE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7420-B931-4545-B964-BF6B5E32224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E9A1-AC80-42DC-8BFC-7B143F19F39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7D72-0C29-46E2-B29C-3865BBD3F8C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-14400" y="1944720"/>
            <a:ext cx="91058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ralling, planting density and N fertilizer rate effect on soil, weed and maize yie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54000" y="4653000"/>
            <a:ext cx="9090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, Larbi Asam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oku Andrews, Francis Marthy Tetteh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eschle-Zeledon Irm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404D-58DB-435F-BD15-10FFCD55EE1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6442-D61B-402E-9CC1-D39D689D367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12600" y="-7452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924600" y="-111240"/>
            <a:ext cx="2237040" cy="64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2697-4662-4780-A989-F9E16DF0CA8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tle 1"/>
          <p:cNvSpPr/>
          <p:nvPr/>
        </p:nvSpPr>
        <p:spPr>
          <a:xfrm>
            <a:off x="12600" y="2412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properties as affected by SDSG in northern Ghana, 2014 and 2015 cropping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45400" y="32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7ED1-CA68-4FBC-958F-BC5C69F31F7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2600" y="1125360"/>
          <a:ext cx="9097920" cy="5480280"/>
        </p:xfrm>
        <a:graphic>
          <a:graphicData uri="http://schemas.openxmlformats.org/drawingml/2006/table">
            <a:tbl>
              <a:tblPr/>
              <a:tblGrid>
                <a:gridCol w="3097440"/>
                <a:gridCol w="596880"/>
                <a:gridCol w="720720"/>
                <a:gridCol w="720720"/>
                <a:gridCol w="644400"/>
                <a:gridCol w="809640"/>
                <a:gridCol w="1433520"/>
                <a:gridCol w="1074600"/>
              </a:tblGrid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4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8DE6-3085-460D-871E-F4EF4A0B7F5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C5F9-A060-467A-81C7-2FBAB6DC177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2B7D-5FBD-4D61-930A-2492F1EB150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itle 1"/>
          <p:cNvSpPr/>
          <p:nvPr/>
        </p:nvSpPr>
        <p:spPr>
          <a:xfrm>
            <a:off x="57240" y="1496880"/>
            <a:ext cx="51894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22320" y="234936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32FF-CB04-4A01-86D1-DAD20489371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87A2-7F6A-497C-9B10-AA1EA976770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127080" y="1936800"/>
            <a:ext cx="892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02A3-A8D4-4EEE-8115-74D3FD59944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9DD4-4975-4741-AF81-8DFE6B15000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47A4-5B41-4DAC-B01A-1EACA1DD15F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3216-A666-42B0-8A8E-CC275DBA437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46080" y="765000"/>
            <a:ext cx="91314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71A4-F1E1-4982-A418-FCC69C33080F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3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C2A7-F2D7-480B-AC99-C92361AB548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259C-A98E-4E2A-94BB-50C8973B3D1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1A06-02F1-4AA9-8CCF-C4BADD76D20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, Jonathan (IITA)</cp:lastModifiedBy>
  <cp:lastPrinted>2015-09-01T11:16:39Z</cp:lastPrinted>
  <dcterms:modified xsi:type="dcterms:W3CDTF">2016-12-14T07:39:46Z</dcterms:modified>
  <cp:revision>979</cp:revision>
  <dc:subject/>
  <dc:title>Diapositiva 1</dc:title>
</cp:coreProperties>
</file>